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37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B66-257B-4696-AA8C-151BDFEE5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9DE-E2E9-48EC-B329-20F77BE8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98E-1D17-4EA8-AE5A-9B459E6B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2ED-F3E1-446D-ACEA-B22F1624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65-72F1-44E4-8A85-EC3F738D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501-22F5-4873-871F-B6840929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4818-CA89-4F26-AE6C-500C8EFB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FD3-B096-43A1-89E4-5BFD520E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730-ADA5-450F-8842-CC5999E7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945C-A7E7-49B7-9255-C6D8E39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06B-1BF6-461B-B1D5-E54C242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4BA-8172-46DC-9C9C-77DFC7E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9BAE-1541-45B7-AD09-007AEF920E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Eduard_Uspensky_2.jpg?uselang=ru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35816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ценарис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5840" y="380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По своим книгам он писал сценарии к мультфильма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Рыжий, рыжий, конопаты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Пластилиновая ворон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Крокодил Гена и его друзь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Трое из Простоквашино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Следствие ведут колоб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Фиксик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3440" y="1523880"/>
            <a:ext cx="37227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Поэ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581280" y="5335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овал Эдуард Николаевич  и стихи сочин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 превзошел ожидания – прекрасный сборник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Разноцветная семей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657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Eduard Uspensky 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80880"/>
            <a:ext cx="2381400" cy="35719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990720" y="41148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сбыться планам помешала болезнь, а 14 августа 2018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дуард Успенский ум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му было 80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дуард Успенский. Кто же 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095560" cy="32385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2214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2481120" y="3352680"/>
            <a:ext cx="2633760" cy="33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4648320" y="1143000"/>
            <a:ext cx="213336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Picture 7" descr=""/>
          <p:cNvPicPr/>
          <p:nvPr/>
        </p:nvPicPr>
        <p:blipFill>
          <a:blip r:embed="rId6"/>
          <a:stretch/>
        </p:blipFill>
        <p:spPr>
          <a:xfrm>
            <a:off x="6858000" y="1143000"/>
            <a:ext cx="223056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8" descr=""/>
          <p:cNvPicPr/>
          <p:nvPr/>
        </p:nvPicPr>
        <p:blipFill>
          <a:blip r:embed="rId7"/>
          <a:stretch/>
        </p:blipFill>
        <p:spPr>
          <a:xfrm>
            <a:off x="5029200" y="42670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9" descr=""/>
          <p:cNvPicPr/>
          <p:nvPr/>
        </p:nvPicPr>
        <p:blipFill>
          <a:blip r:embed="rId8"/>
          <a:stretch/>
        </p:blipFill>
        <p:spPr>
          <a:xfrm>
            <a:off x="7086600" y="4572000"/>
            <a:ext cx="1895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90" name="gudok_parovoza.mp3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1" descr="ar128181400270473"/>
          <p:cNvPicPr/>
          <p:nvPr/>
        </p:nvPicPr>
        <p:blipFill>
          <a:blip r:embed="rId1"/>
          <a:stretch/>
        </p:blipFill>
        <p:spPr>
          <a:xfrm>
            <a:off x="3048120" y="26668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___1_~1"/>
          <p:cNvPicPr/>
          <p:nvPr/>
        </p:nvPicPr>
        <p:blipFill>
          <a:blip r:embed="rId2"/>
          <a:stretch/>
        </p:blipFill>
        <p:spPr>
          <a:xfrm>
            <a:off x="6477120" y="914400"/>
            <a:ext cx="2666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-_1_~1"/>
          <p:cNvPicPr/>
          <p:nvPr/>
        </p:nvPicPr>
        <p:blipFill>
          <a:blip r:embed="rId3"/>
          <a:stretch/>
        </p:blipFill>
        <p:spPr>
          <a:xfrm>
            <a:off x="152280" y="3886200"/>
            <a:ext cx="2746440" cy="279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162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гадай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2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чень скромная и воспитанная девочка , круглая отличница. У нее тоже не было друзей, потому что она была слишком уж тихой и незаметной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ру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сканирование0006 (2)"/>
          <p:cNvPicPr/>
          <p:nvPr/>
        </p:nvPicPr>
        <p:blipFill>
          <a:blip r:embed="rId1"/>
          <a:stretch/>
        </p:blipFill>
        <p:spPr>
          <a:xfrm>
            <a:off x="2666880" y="1447920"/>
            <a:ext cx="3652920" cy="484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41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Как-то вечером на огонёк зашёл высокий рыжий гражданин с блокнотом в рука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орреспонден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сканирование0005"/>
          <p:cNvPicPr/>
          <p:nvPr/>
        </p:nvPicPr>
        <p:blipFill>
          <a:blip r:embed="rId1"/>
          <a:stretch/>
        </p:blipFill>
        <p:spPr>
          <a:xfrm>
            <a:off x="2819520" y="1295280"/>
            <a:ext cx="331452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22860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зоопарке жил очень злой и глупый зверь. Его по воскресеньям кормила Шапокляк, стараясь приручить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Носорог Птен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канирование0006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525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рязный, никому ненужный зверь, который сидел на мостовой и тихонько плака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обачка Тоб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сканирование0007"/>
          <p:cNvPicPr/>
          <p:nvPr/>
        </p:nvPicPr>
        <p:blipFill>
          <a:blip r:embed="rId1"/>
          <a:stretch/>
        </p:blipFill>
        <p:spPr>
          <a:xfrm>
            <a:off x="2743200" y="1447920"/>
            <a:ext cx="3503520" cy="48006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Толстый крокодил, который работал в зоопарке во вторую смену и любил читать книги. Как его зовут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окодил Ва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1676520" y="1752480"/>
            <a:ext cx="5919840" cy="4050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вошёл большой-пребольшой лев в пенсне и шляпе». Как его звал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Лев Чанд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сканирование0009"/>
          <p:cNvPicPr/>
          <p:nvPr/>
        </p:nvPicPr>
        <p:blipFill>
          <a:blip r:embed="rId1"/>
          <a:stretch/>
        </p:blipFill>
        <p:spPr>
          <a:xfrm>
            <a:off x="2362320" y="1295280"/>
            <a:ext cx="433368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666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Маленькая, очень серьёзная девочка, которая работает в детском театр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а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сканирование0010"/>
          <p:cNvPicPr/>
          <p:nvPr/>
        </p:nvPicPr>
        <p:blipFill>
          <a:blip r:embed="rId1"/>
          <a:stretch/>
        </p:blipFill>
        <p:spPr>
          <a:xfrm>
            <a:off x="2971800" y="1371600"/>
            <a:ext cx="3106800" cy="510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спенско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_________________49de67dd220c0"/>
          <p:cNvPicPr/>
          <p:nvPr/>
        </p:nvPicPr>
        <p:blipFill>
          <a:blip r:embed="rId1"/>
          <a:stretch/>
        </p:blipFill>
        <p:spPr>
          <a:xfrm>
            <a:off x="1828800" y="18288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В комнату просуну-лась какая-то странная голова с короткими рожками и длинными подвижными ушами. Она понюхала цветы, стоявшие на окне»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Жирафа Аню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сканирование0013"/>
          <p:cNvPicPr/>
          <p:nvPr/>
        </p:nvPicPr>
        <p:blipFill>
          <a:blip r:embed="rId1"/>
          <a:stretch/>
        </p:blipFill>
        <p:spPr>
          <a:xfrm>
            <a:off x="2971800" y="1295280"/>
            <a:ext cx="2984400" cy="5181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590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На пороге появился мальчишка. Он был бы совсем обыкновенным, этот мальчишка, если бы он не был необыкновенно растрёпанным и чумазым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Двоечник Д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сканирование0015"/>
          <p:cNvPicPr/>
          <p:nvPr/>
        </p:nvPicPr>
        <p:blipFill>
          <a:blip r:embed="rId1"/>
          <a:stretch/>
        </p:blipFill>
        <p:spPr>
          <a:xfrm>
            <a:off x="2971800" y="1295280"/>
            <a:ext cx="3192480" cy="50292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23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3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еснегра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3" descr="ukraschenie_4"/>
          <p:cNvPicPr/>
          <p:nvPr/>
        </p:nvPicPr>
        <p:blipFill>
          <a:blip r:embed="rId1"/>
          <a:stretch/>
        </p:blipFill>
        <p:spPr>
          <a:xfrm>
            <a:off x="3276720" y="3429000"/>
            <a:ext cx="50576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__________4cbdeeb4ba512"/>
          <p:cNvPicPr/>
          <p:nvPr/>
        </p:nvPicPr>
        <p:blipFill>
          <a:blip r:embed="rId1"/>
          <a:stretch/>
        </p:blipFill>
        <p:spPr>
          <a:xfrm>
            <a:off x="1676520" y="914400"/>
            <a:ext cx="5562360" cy="50734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pic>
        <p:nvPicPr>
          <p:cNvPr id="127" name="Чебурашка плюс.mp3" descr=""/>
          <p:cNvPicPr/>
          <p:nvPr/>
        </p:nvPicPr>
        <p:blipFill>
          <a:blip r:embed="rId2"/>
          <a:stretch/>
        </p:blipFill>
        <p:spPr>
          <a:xfrm>
            <a:off x="457200" y="5791320"/>
            <a:ext cx="762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746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ph1"/>
          <p:cNvPicPr/>
          <p:nvPr/>
        </p:nvPicPr>
        <p:blipFill>
          <a:blip r:embed="rId1"/>
          <a:stretch/>
        </p:blipFill>
        <p:spPr>
          <a:xfrm>
            <a:off x="1523880" y="1676520"/>
            <a:ext cx="6370920" cy="4778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511560"/>
            <a:ext cx="84582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песня Шапокляк.mp3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136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32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gudok_parovoza.mp3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gudok_parovoza.mp3" descr=""/>
          <p:cNvPicPr/>
          <p:nvPr/>
        </p:nvPicPr>
        <p:blipFill>
          <a:blip r:embed="rId4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4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243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243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" descr="ff962c65118d"/>
          <p:cNvPicPr/>
          <p:nvPr/>
        </p:nvPicPr>
        <p:blipFill>
          <a:blip r:embed="rId1"/>
          <a:stretch/>
        </p:blipFill>
        <p:spPr>
          <a:xfrm>
            <a:off x="5638680" y="1219320"/>
            <a:ext cx="3208320" cy="44956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533520" y="24379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Город Знатоков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дуард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пе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5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Родился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22 декабря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1937 года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 Московской области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000000"/>
                </a:solidFill>
                <a:latin typeface="Arial"/>
              </a:rPr>
              <a:t>Кто он?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1. Что делал Чебурашка около большого фруктового сада</a:t>
            </a:r>
            <a:br>
              <a:rPr sz="4200"/>
            </a:b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на ящиках с апельсинами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2640" y="2742840"/>
            <a:ext cx="75438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завтрак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бед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ужинал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5200" spc="-1" strike="noStrike">
                <a:solidFill>
                  <a:srgbClr val="000000"/>
                </a:solidFill>
                <a:latin typeface="Arial"/>
              </a:rPr>
              <a:t>Где работал Чебурашка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905120"/>
            <a:ext cx="87631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игруше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уценённых            това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агазине одежд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157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3. Сколько лет крокодилу Гене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210132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. Во что любил играть сам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   с собой крокодил Ген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95280" y="2514240"/>
            <a:ext cx="73152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морской бой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естики -нолики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5. На чём готовил кофе Гена в гостях у Чебурашки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2514240"/>
            <a:ext cx="777240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плит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 костр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 микроволновке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53452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. Какую роль исполнял кроко- дил Гена в детском спектакл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2438280"/>
            <a:ext cx="7543800" cy="38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вол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бабуш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Красная Шапоч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 Любимое животное старухи Шапокля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360" y="2361960"/>
            <a:ext cx="3886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ры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хомя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8. Какая фамилия была у известного доктора, к которому побежала Шапокляк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47560" y="2514240"/>
            <a:ext cx="419076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Иван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Пет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Сидоров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716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9. Кого просил в друзья     двоечник Дима?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47560" y="2362320"/>
            <a:ext cx="518148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отли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тр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двоечника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0. Что сделал Гена, чтоб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го не узнавали на строй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243792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парик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маску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надел новый костюм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27672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льч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2000" y="6091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 маленького Эдика была любимая игр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ши – большие, хвост пуговкой, не поймешь, не то заяц, не то соба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вом, неизвестный науке зверь, названный позже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Чебураш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38040" y="1752480"/>
            <a:ext cx="3733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1. За сколько секунд Шапокляк забралась на вершину дерева, убегая от носорог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71600" y="2742840"/>
            <a:ext cx="5029200" cy="38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0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5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100" spc="-1" strike="noStrike">
                <a:solidFill>
                  <a:srgbClr val="000000"/>
                </a:solidFill>
                <a:latin typeface="Arial"/>
              </a:rPr>
              <a:t>15 секунд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. Сколько времени висела старуха Шапокляк на дерев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19320" y="2590920"/>
            <a:ext cx="403848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3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4 час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2" name="gudok_parovoza.mp3" descr=""/>
          <p:cNvPicPr/>
          <p:nvPr/>
        </p:nvPicPr>
        <p:blipFill>
          <a:blip r:embed="rId2"/>
          <a:stretch/>
        </p:blipFill>
        <p:spPr>
          <a:xfrm>
            <a:off x="2286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243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Город Художн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0_8d6d9_1e2f0f91_orig"/>
          <p:cNvPicPr/>
          <p:nvPr/>
        </p:nvPicPr>
        <p:blipFill>
          <a:blip r:embed="rId1"/>
          <a:stretch/>
        </p:blipFill>
        <p:spPr>
          <a:xfrm rot="20110200">
            <a:off x="5029200" y="-152280"/>
            <a:ext cx="301608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сканирование0003 (2)"/>
          <p:cNvPicPr/>
          <p:nvPr/>
        </p:nvPicPr>
        <p:blipFill>
          <a:blip r:embed="rId1"/>
          <a:stretch/>
        </p:blipFill>
        <p:spPr>
          <a:xfrm>
            <a:off x="1905120" y="380880"/>
            <a:ext cx="5483160" cy="6050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66" name="usatyi_nyan_-_vstupitelnaya_tema.mp3" descr=""/>
          <p:cNvPicPr/>
          <p:nvPr/>
        </p:nvPicPr>
        <p:blipFill>
          <a:blip r:embed="rId2"/>
          <a:stretch/>
        </p:blipFill>
        <p:spPr>
          <a:xfrm>
            <a:off x="533520" y="5791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4381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68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2243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133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0"/>
            </a:b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Правила</a:t>
            </a:r>
            <a:br>
              <a:rPr sz="11000"/>
            </a:br>
            <a:r>
              <a:rPr b="1" lang="ru-RU" sz="11000" spc="-1" strike="noStrike">
                <a:solidFill>
                  <a:srgbClr val="ff0000"/>
                </a:solidFill>
                <a:latin typeface="Arial"/>
              </a:rPr>
              <a:t>Д </a:t>
            </a:r>
            <a:r>
              <a:rPr b="1" lang="ru-RU" sz="11000" spc="-1" strike="noStrike">
                <a:solidFill>
                  <a:srgbClr val="3333cc"/>
                </a:solidFill>
                <a:latin typeface="Arial"/>
              </a:rPr>
              <a:t>Р </a:t>
            </a:r>
            <a:r>
              <a:rPr b="1" lang="ru-RU" sz="11000" spc="-1" strike="noStrike">
                <a:solidFill>
                  <a:srgbClr val="ff9900"/>
                </a:solidFill>
                <a:latin typeface="Arial"/>
              </a:rPr>
              <a:t>У </a:t>
            </a:r>
            <a:r>
              <a:rPr b="1" lang="ru-RU" sz="11000" spc="-1" strike="noStrike">
                <a:solidFill>
                  <a:srgbClr val="33cc33"/>
                </a:solidFill>
                <a:latin typeface="Arial"/>
              </a:rPr>
              <a:t>Ж </a:t>
            </a:r>
            <a:r>
              <a:rPr b="1" lang="ru-RU" sz="11000" spc="-1" strike="noStrike">
                <a:solidFill>
                  <a:srgbClr val="6600cc"/>
                </a:solidFill>
                <a:latin typeface="Arial"/>
              </a:rPr>
              <a:t>Б </a:t>
            </a:r>
            <a:r>
              <a:rPr b="1" lang="ru-RU" sz="11000" spc="-1" strike="noStrike">
                <a:solidFill>
                  <a:srgbClr val="a50021"/>
                </a:solidFill>
                <a:latin typeface="Arial"/>
              </a:rPr>
              <a:t>Ы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905120" y="682200"/>
            <a:ext cx="4647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Помогать друг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Работать сооб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ть договарив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  <a:ea typeface="Calibri"/>
              </a:rPr>
              <a:t>Умение радоваться вместе с друз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овые приключения др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"/>
          <p:cNvSpPr/>
          <p:nvPr/>
        </p:nvSpPr>
        <p:spPr>
          <a:xfrm>
            <a:off x="533520" y="134136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и его друзь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Бизнес крокодила Ге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Отпуск крокодила Гены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Крокодил Гена – лейтенант милиции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Чебурашка уходит в народ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 Light"/>
                <a:ea typeface="Calibri"/>
              </a:rPr>
              <a:t>«Похищение Чебурашки»</a:t>
            </a: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7"/>
          <p:cNvPicPr/>
          <p:nvPr/>
        </p:nvPicPr>
        <p:blipFill>
          <a:blip r:embed="rId1"/>
          <a:stretch/>
        </p:blipFill>
        <p:spPr>
          <a:xfrm>
            <a:off x="304920" y="1447920"/>
            <a:ext cx="8458200" cy="3825720"/>
          </a:xfrm>
          <a:prstGeom prst="rect">
            <a:avLst/>
          </a:prstGeom>
          <a:ln w="0">
            <a:noFill/>
          </a:ln>
        </p:spPr>
      </p:pic>
      <p:pic>
        <p:nvPicPr>
          <p:cNvPr id="174" name="gudok_parovoza.mp3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2243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ведём итог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стигли ли мы цел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ить себя, как я понял прочитан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узнать о писателе са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едить других ребят, кто ещё не прочитал эти книги обязательно их проч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81280" y="456840"/>
            <a:ext cx="54165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ос Эдик озорным мальчиком и получал плохие отмет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 двоечником быть не хотел, в глубине души он хотел стать академиком или минист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048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7"/>
          <p:cNvPicPr/>
          <p:nvPr/>
        </p:nvPicPr>
        <p:blipFill>
          <a:blip r:embed="rId1"/>
          <a:stretch/>
        </p:blipFill>
        <p:spPr>
          <a:xfrm>
            <a:off x="1073160" y="3048120"/>
            <a:ext cx="8070840" cy="3809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тешествие на литературном поезде  по книг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дуарда Успенского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Крокодил Ге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 его друзья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Инжен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560" y="380520"/>
            <a:ext cx="55688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н так упорно занимался, что смог поступить в авиа-ционный институт и стать инженер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года прорабо-тал по специаль-ности, но понял, что делает не свое де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6576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Юморист - пис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81280" y="304920"/>
            <a:ext cx="55627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женер Успенский решил стать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зрослы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морист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 потом быстро переквалифициро-вался и стал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детским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исателем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447920"/>
            <a:ext cx="362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3530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80920" y="380520"/>
            <a:ext cx="54104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В одном городе жил крокодил по имени Гена, а работал он в зоопарке крокодило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 в 1966 году появилась книга «Крокодил Гена и его друзья», прославившая писате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657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58:26Z</dcterms:created>
  <dc:creator>User</dc:creator>
  <dc:description/>
  <dc:language>en-US</dc:language>
  <cp:lastModifiedBy>Пользователь Windows</cp:lastModifiedBy>
  <dcterms:modified xsi:type="dcterms:W3CDTF">2021-07-22T06:50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